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491-F04E-4B39-88C8-CE7C80D4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579-C150-4DDF-9AF9-DE703A18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36C-9772-4C45-ACFB-322A1A60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ABB-3320-46CE-8B2B-B12976D9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24B-415A-4173-B227-8B2EBA99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5FF-8A58-4FDE-B8DA-FE8EEF37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C0E-5508-4FFD-B000-1C81583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DE2-B626-4A8D-B998-802C27B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506-9D32-4A7A-880D-578BC486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9EC-79BA-4C2C-84F7-653E4E77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C6E-CFC9-4C53-9705-B9507602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0DE-81F8-4F17-A414-569E7325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61FAAEC2-465C-49C4-BA23-AE6D5F8C71D8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RCOT Project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87AB-94ED-4766-98DD-A2D138B2C3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114800" cy="1978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9680" indent="0" algn="ctr"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0800" algn="ctr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30480" algn="ctr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41600" algn="ctr">
              <a:spcBef>
                <a:spcPts val="349"/>
              </a:spcBef>
              <a:buClr>
                <a:srgbClr val="009999"/>
              </a:buClr>
              <a:buFont typeface="Arial"/>
              <a:buChar char="»"/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641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641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59520" y="3630600"/>
            <a:ext cx="449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6 Project Up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QSE MWG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32280" y="4960800"/>
            <a:ext cx="48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t Me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2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1680" y="901800"/>
            <a:ext cx="829476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QSE MWG with a forecast of projects related to QS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current 2006 Prioritiza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 of projects i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rrent 2006 Market Priority Lis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901440"/>
            <a:ext cx="8955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 Project Priority List as approved by 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ly no high ranking (1.x) wholesale market sponsored projects for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 the project cut-off line will be in the ERCOT 1.1 or Mkt 1.2 priority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Hierarchy: PUC1.1 / Mkt1.1 / ERCOT1.1 / PUC1.2 / Mkt1.2 / ERCOT1.2 /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st ranking WMS Market project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R409 (PR-30032 Voltage Support Service)- Priority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720 (PR-20126 Zone Forecast and Actual Generation)- Priority 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728 (PR-20126 Display ERCOT Deployments)- Priority 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/Portal Phase 3 Wholesale Enhancement has a 1.1 priority from COPS/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e may include file uploading of schedules into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no current plan for an “EMMS 5” Market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Rel. 5 Candidate” project s on current Project Priority List are being worked individually or in sm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rrent 2006 ERCOT Priority Lis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60" y="901440"/>
            <a:ext cx="84898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RCOT Operations Projects fo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224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or Training Simulator / Testing Simulation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 Tie Automation and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Model Mana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pology Est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ignificant Market Facing Changes (ye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2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candidates in the pip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R567- 3-Part A/S Bi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R601- 15-minute Ramping Peri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CT direction on market design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>
              <a:spcBef>
                <a:spcPts val="349"/>
              </a:spcBef>
              <a:buNone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rrent Anticipated System Imp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2040" y="901440"/>
            <a:ext cx="856296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what can you expect in terms of system changes as a Q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MS Release 4 (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502- Aggregation Combined Cycle for RRS (post EMMS R4-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 Tie Scheduling for Mexico Tie (for applicable QSEs- late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 of Real Time Market Ramp Rate feasibility study (2006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TML changes- may allow file uploading of schedules in Portal (2006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flight PRRs such as PRR601 (possibly early 2006) and other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2040" y="901440"/>
            <a:ext cx="856296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questions or follow-up items from the pres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duncan</dc:creator>
  <dc:description/>
  <dc:language>en-US</dc:language>
  <cp:lastModifiedBy>pcoon</cp:lastModifiedBy>
  <cp:lastPrinted>1999-12-01T22:56:09Z</cp:lastPrinted>
  <dcterms:modified xsi:type="dcterms:W3CDTF">2005-07-21T22:01:15Z</dcterms:modified>
  <cp:revision>767</cp:revision>
  <dc:subject/>
  <dc:title>Toll Gate</dc:title>
</cp:coreProperties>
</file>